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7.wmf" ContentType="image/x-wmf"/>
  <Override PartName="/ppt/media/image16.jpeg" ContentType="image/jpeg"/>
  <Override PartName="/ppt/media/image14.jpeg" ContentType="image/jpeg"/>
  <Override PartName="/ppt/media/image1.gif" ContentType="image/gif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0.png" ContentType="image/png"/>
  <Override PartName="/ppt/media/image5.wmf" ContentType="image/x-wmf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F81-1C01-49D4-A295-74203B76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582-3F97-4213-946F-A618F6D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768-BF1A-48F5-9891-91F0099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518-E123-4BC9-A16C-F0D7AA17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A272-86FF-4441-8EEF-693198F0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AA13-E525-4054-A679-6559F18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EBC6-5A7C-4FB7-AD98-DEFA3F13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45C8-62AE-4C85-BB97-C115A504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0E1F-F27A-4E91-A329-3142DAC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B812-102C-4967-8AE9-2BB98BE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622A-479F-47C5-A693-96B4AE3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6A0-D31B-46B8-88C3-6EE6F0D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8EE0-05EC-44ED-8A72-E6D6E73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D2F4-4B9F-44DE-9EB5-E58E2020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1EFB-CB3F-4744-BDC7-A37DA20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0FE-B542-4A60-AFB7-328B1AD4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AFA-8830-4788-AD7A-9957767C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7A4-6F8F-4808-A87E-F4069E22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D28-8CFA-4110-AF0D-FE43E0F2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338-3515-4000-8C16-5BEA7D8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0C9-ADBF-4222-8A1B-3B7E3DB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26E-9C46-4EE2-91E6-1537BC1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DC0-619E-432F-A2B5-7475B75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C14-FFC6-4368-A855-CEEF637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6D6C-6EE1-42C6-82FF-1114B7CBC1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8CB-E44D-4694-B0BA-60A7AB0EF5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втор проек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антелеева Викт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ченица 11 кла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ГОУ СОШ № 19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унаева И.И.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читель хим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ГОУ СОШ № 19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яет работы связанные с контролем качества сырья, реактивов, промежуточных продуктов, готовой продукции, отходов производства в различных отраслях экономи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борант-аналит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19640" y="2781360"/>
            <a:ext cx="2608200" cy="331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67640" y="213372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пециалист с высшим фармацевтическим образованием, работающий в сфере производства, хранения, продажи лекарственных препара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из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443640" y="2060640"/>
            <a:ext cx="2305080" cy="316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2448000" cy="1727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867280" y="4900680"/>
            <a:ext cx="2448000" cy="19573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ециалист в области биофизики (науки, изучающей физические и физико-химические процессы в живых организмах на всех уровнях организации живой материи, а также тонкую структуру различных биологических систем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охим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984480" cy="31874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рач-инфекцион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ст по инфекционным болезням. Изучает возникновение, механизмы развития и клинические проявления инфекционных болезней, вызываемых болезнетворными микроорганизмами, разрабатывзет методы их лечения и профилакт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879640" cy="395928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авный техно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цо, организующее разработку и внедрение прогрессивных, экономически обоснованных, ресурсо- и природосберегающих технологических процессов и режимов производства выпускаемой предприятием продукции, выполнения работ (услуг), обеспечивающих повышение уровня технологической подготовки и технического перевооружения производства, сокращение расходов сырья, материалов, затрат труда, улучшение качества продукции, работ (услуг) и рост производительности тр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2671920"/>
            <a:ext cx="3745080" cy="275904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писок литературы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.И.Рогов. Выбор профессии: Становление профессионала. М.; Изд-во ВЛАДОС-ПРЕСС, 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. Баррет. Карьера: способности и выбор. Тесты. М.; Изд-во АСТ Астроль, 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.Н.Семенов, А.С.Максимов, А.А.Макареня. Химия и научно-технический прогресс. Книга для учащихся 9-10 классов. М.; Изд-во Просвещение, 198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авочник профессий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botk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work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75280" y="4246560"/>
            <a:ext cx="1909440" cy="161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ая ч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Социологический опр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Обработка результ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Химические специа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1 Лаборант химического анали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2 Лаборант-аналит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3 Провиз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4 Биохим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5 Врач-инфекциони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6 Главный технол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Заклю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и и задачи проект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 проекта: создать учебное пособие о специальностях, связанных с хими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учение литературы по данному вопросу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дение социологического опрос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бор материал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видеопрезентац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и проведение классных часов по выбранной про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812000" y="765000"/>
            <a:ext cx="1054080" cy="1008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людени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циометрический эксперимен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 бесед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кетиро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результатов деятель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1640" y="4653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вопро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зови самые престижные специальности среди перечисленных: экономист, переводчик, учитель, химик, юрист, инженер, вр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4103640" cy="3611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524720" y="1125360"/>
            <a:ext cx="1619280" cy="155448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вопро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предметы в школе ты считаешь наиболее важными и значимыми для себ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916280"/>
          <a:ext cx="4248000" cy="38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424800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1795320" cy="17240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вопро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тел бы ты связать свою жизнь с одной из профессий, связанных с дальнейшим изучением хим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31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5133960"/>
            <a:ext cx="1795680" cy="17240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вопро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ешь ли ты где можно приобрести химические специальн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4392720" cy="316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1795680" cy="172404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имические профес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аборант химического анали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дит химический и физико-химический анализ различных веществ: руд, нефти и нефтепродуктов, сталей различных марок, сплавов металлов, кислот, солей и др. необходимый для контроля соответствия продуктов технологического процесса и готовой продукции заданным норм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3168720" cy="3025800"/>
          </a:xfrm>
          <a:prstGeom prst="rect">
            <a:avLst/>
          </a:prstGeom>
          <a:ln w="0">
            <a:noFill/>
          </a:ln>
        </p:spPr>
      </p:pic>
    </p:spTree>
  </p:cSld>
  <p:transition advTm="1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3:03Z</dcterms:created>
  <dc:creator>Chimic</dc:creator>
  <dc:description/>
  <dc:language>en-US</dc:language>
  <cp:lastModifiedBy>Chimic</cp:lastModifiedBy>
  <dcterms:modified xsi:type="dcterms:W3CDTF">2009-01-26T11:02:28Z</dcterms:modified>
  <cp:revision>4</cp:revision>
  <dc:subject/>
  <dc:title>Химические профессии</dc:title>
</cp:coreProperties>
</file>